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9804F-6012-40BD-8566-2F8F49B37A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25505-781D-4D39-956D-443DFFD696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9FF22-8724-468F-AB75-0B65494E2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DBFCF-D614-46D7-8AF4-4A0F91860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4264E-FDA1-404B-93C9-147BA8EBE2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3B251-717D-4277-B893-D5209DA40A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0C086-7104-4A78-BF24-5104B8FEBB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DC3E8-2C0B-4E1D-9F05-120EF19408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0C5A5-B66D-46A7-9BA0-31490E513A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DE065-7EE4-4B46-A582-29703E4312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5BBD9-BB94-4E19-897E-B2954CC601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C3A77-271A-4B37-94B7-A9BE041771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1C121-1154-4902-8F7D-574896D700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77E91-59F5-4D16-8FFE-5CBF8B7F39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315ED-7949-4100-B230-EF1D2F9A11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8C24F-5D82-46D4-B897-B41A38C40C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F2B3E-5C10-4B37-953B-AF5989FEAA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D2FD6-DB0F-4403-BDCD-960CDC543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73ABC-DE45-4DF4-A639-4979DF4BB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2CDE7-A7FC-4EE6-8E8A-C4DA5E7CC0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6961D-8C97-4A25-A3EF-B5F378DC7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46116-CD24-45AD-B4C9-6A83E2E76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AB23E-F7AE-44EA-95C4-79A92E1B1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91A26-3C87-4EA9-A510-855D4678D2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3FAB6AE-D04B-4629-9AAB-A5817366957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8B216A3-5BD4-4E1B-A89B-6BD11ED6479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71B0DB1-594C-4388-9106-66D1E2228AF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551E729-C4F9-415B-A871-CCF6067710E9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5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2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7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path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6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3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7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un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solely on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ee also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299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1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ategorical Data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re’s another: Reading score &amp; shoe size are positively correlated. </a:t>
            </a: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1-04-07T09:03:10Z</dcterms:modified>
  <cp:revision>292</cp:revision>
  <dc:subject/>
  <dc:title>REGRESSION ANALYSIS</dc:title>
</cp:coreProperties>
</file>